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311-E883-463E-A1AB-6882AF2E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A32-5EC9-47C0-9F76-381FBBD0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B60-A058-47F2-901D-70CEF20E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44E-B98B-4429-B5D9-D2367D98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CE8-AA04-41EB-9AF7-FDB8294C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8B9-A70A-4325-87F4-E4DFAD24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E8E-293C-4B63-A0E8-7B8F5A8A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E79-A735-4BF5-9F02-B213BC5C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FBA-E927-47E2-BA09-D9C30813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0DE-289E-46D7-8141-4B656845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03C-F958-46B9-8B7C-3ACDA2C9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128-8ACB-4EFC-A780-F4DCA201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92E0-B65C-4340-B304-0496CE401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96" t="712" r="0" b="0"/>
          <a:stretch/>
        </p:blipFill>
        <p:spPr>
          <a:xfrm>
            <a:off x="487440" y="561960"/>
            <a:ext cx="8219880" cy="5776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388620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1220" r="0" b="0"/>
          <a:stretch/>
        </p:blipFill>
        <p:spPr>
          <a:xfrm>
            <a:off x="411120" y="579600"/>
            <a:ext cx="8321760" cy="577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9680" y="13716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r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940" t="1084" r="0" b="0"/>
          <a:stretch/>
        </p:blipFill>
        <p:spPr>
          <a:xfrm>
            <a:off x="515880" y="571680"/>
            <a:ext cx="8191440" cy="5779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243828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945" t="991" r="945" b="0"/>
          <a:stretch/>
        </p:blipFill>
        <p:spPr>
          <a:xfrm>
            <a:off x="534960" y="596880"/>
            <a:ext cx="8074080" cy="5721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14400" y="24382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nd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946" t="496" r="0" b="634"/>
          <a:stretch/>
        </p:blipFill>
        <p:spPr>
          <a:xfrm>
            <a:off x="541440" y="588960"/>
            <a:ext cx="8138880" cy="5673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66680" y="23623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abb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1019" t="0" r="0" b="0"/>
          <a:stretch/>
        </p:blipFill>
        <p:spPr>
          <a:xfrm>
            <a:off x="522360" y="533520"/>
            <a:ext cx="8184960" cy="5790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90720" y="23623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engu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1154" t="1089" r="0" b="0"/>
          <a:stretch/>
        </p:blipFill>
        <p:spPr>
          <a:xfrm>
            <a:off x="533520" y="584280"/>
            <a:ext cx="8173800" cy="5754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90720" y="2438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771" t="988" r="0" b="876"/>
          <a:stretch/>
        </p:blipFill>
        <p:spPr>
          <a:xfrm>
            <a:off x="527040" y="590400"/>
            <a:ext cx="8153280" cy="5683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22860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ro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774" t="995" r="0" b="0"/>
          <a:stretch/>
        </p:blipFill>
        <p:spPr>
          <a:xfrm>
            <a:off x="520560" y="611280"/>
            <a:ext cx="8166240" cy="5694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26668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e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771" t="414" r="0" b="0"/>
          <a:stretch/>
        </p:blipFill>
        <p:spPr>
          <a:xfrm>
            <a:off x="527040" y="584280"/>
            <a:ext cx="815328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27432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m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776" t="885" r="953" b="0"/>
          <a:stretch/>
        </p:blipFill>
        <p:spPr>
          <a:xfrm>
            <a:off x="554040" y="611280"/>
            <a:ext cx="8021520" cy="568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2438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946" t="991" r="0" b="0"/>
          <a:stretch/>
        </p:blipFill>
        <p:spPr>
          <a:xfrm>
            <a:off x="541440" y="596880"/>
            <a:ext cx="8138880" cy="5721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90720" y="457200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is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493" r="0" b="0"/>
          <a:stretch/>
        </p:blipFill>
        <p:spPr>
          <a:xfrm>
            <a:off x="490680" y="576360"/>
            <a:ext cx="8162640" cy="573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4400" y="46483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ur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771" t="993" r="0" b="0"/>
          <a:stretch/>
        </p:blipFill>
        <p:spPr>
          <a:xfrm>
            <a:off x="527040" y="604800"/>
            <a:ext cx="8153280" cy="5707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53341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leph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771" t="743" r="0" b="0"/>
          <a:stretch/>
        </p:blipFill>
        <p:spPr>
          <a:xfrm>
            <a:off x="527040" y="590400"/>
            <a:ext cx="8153280" cy="5721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90720" y="266688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oril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596" t="1231" r="0" b="0"/>
          <a:stretch/>
        </p:blipFill>
        <p:spPr>
          <a:xfrm>
            <a:off x="487440" y="592200"/>
            <a:ext cx="8219880" cy="5746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14600" y="114300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ip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08:52:21Z</dcterms:created>
  <dc:creator>User</dc:creator>
  <dc:description/>
  <dc:language>en-US</dc:language>
  <cp:lastModifiedBy> </cp:lastModifiedBy>
  <dcterms:modified xsi:type="dcterms:W3CDTF">2009-02-25T11:52:13Z</dcterms:modified>
  <cp:revision>3</cp:revision>
  <dc:subject/>
  <dc:title>Slide 1</dc:title>
</cp:coreProperties>
</file>